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359D-37EC-4F3A-ADAA-40276F0E9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56E1-E3A2-47FC-A6A7-6736392E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22CD-26B7-441F-8320-9946E96D0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3AFE-AA8C-4EA1-A6C3-5276E0137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3311-8687-4F75-BE12-10313E2D2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E5E0-D452-4D17-A1B3-C445DCC3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9E48-CAFE-42D4-B171-CF149BC6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9D6E-4D0A-4EA5-ADE9-1BAA086E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2128-1394-4063-A70C-A36981A9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F74A-BB88-4570-9D65-B2609F81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D2DB-9748-4346-AABD-5E852CEC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0215-C5AA-478D-8AB6-55D9B8DA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5E60-0403-420A-8238-58C0CC9A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93E6-0B64-48EA-91D3-761AA96F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1445-0F3F-4A78-819E-CE3933D9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E028-E47C-44FC-954E-3CC9733EA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19C0-16EF-4C01-B33F-B49072BE9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F4CA-3BD1-4599-A530-D60CAEBE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64CF-8C59-4956-82CF-82C9D4BF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AF44-AD53-4587-8C13-2FD41930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30DD-39F3-42F2-9C65-C206D389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8056-0F38-40FE-AC52-223E2F80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4005-FA68-49B6-8771-CE78F576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86E3-8903-41E5-A99C-BF9A3CCA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1" name="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560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3960" y="3888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aa9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14240" y="5428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54f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647640" y="10663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79b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0A91-F160-468F-9B11-D1B400169E6C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FC4B-49A4-4174-BCE1-2F7761D8288B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51" name="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560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3960" y="24462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aa9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4240" y="26002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54f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47640" y="31237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79b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yberbully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Tackle Legal Twists and Turns of Cyberbull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cial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e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school districts handle cyberbullying off school district grou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 the door to legal issues that school leaders do not know how to deal wi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leaders have little guidance and there are no policies in place to support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cases have gone to court with different outcom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uld ignore the issue but this sends the wrong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ehensive about outcome if they go to cou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tates do have laws addressing cyberbull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districts adopting anti-cyber policies and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funding to help support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commend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policies before incident occ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er on-going education to employees, parents, and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00:43:02Z</dcterms:created>
  <dc:creator>julie/balcer</dc:creator>
  <dc:description/>
  <dc:language>en-US</dc:language>
  <cp:lastModifiedBy>julie/balcer</cp:lastModifiedBy>
  <dcterms:modified xsi:type="dcterms:W3CDTF">2012-06-07T00:59:36Z</dcterms:modified>
  <cp:revision>1</cp:revision>
  <dc:subject/>
  <dc:title>Cyberbullying</dc:title>
</cp:coreProperties>
</file>